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21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22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23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it-IT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B29C2C5-4942-4242-846F-8643F51CFEA7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54FD33F-E86F-444B-8142-AAECF6077151}" type="slidenum">
              <a:rPr b="0" lang="it-IT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ED46348-6AE0-48B1-A58B-44DDB4DBD9A1}" type="slidenum">
              <a:rPr b="0" lang="it-IT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054E72-AFA0-485D-9BD4-958347BC0A6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EFD34B-166E-45EE-B817-3C397CC124F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282EF8-8390-437A-A548-4A12D3837C5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20B73F-0F53-4FAF-9969-8F64CC4D7EB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6FFE14-0140-4E74-BC30-92E3A6BFA01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E173A4-8E31-430D-AFBE-AC381B81A99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4A39FE-69A2-4B08-AFBA-D64E0711862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C3F1A1-5DD1-4041-90F5-1D58CD5A3C7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23A10B-6DA2-4471-B302-988E410578D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3BBE8-FA2E-4E11-956B-A8F91DE833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368FA-4ADB-48AA-BC79-A040AA01B17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93073-2B9E-4F32-9AD3-5B4BCC8EFE0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81E20-E9E1-486D-8018-15CE5E171C6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7CC6A-5E92-453F-B7B9-693FEA728B9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B1A3C-2A1B-444B-AC87-778F5B80499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87124-C4AC-4F96-9E2F-D1D9D7AD243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F2CBD-A024-487C-8C5D-A9550B69775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20CE2-2783-4159-92A7-BAC1B4F4DB4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F4ED8-989D-45D9-9AF3-135A733F053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E3E02-39E1-491E-86CD-7CCF8DEFD0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532B9-37B5-4F95-90B8-021416FF6B0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BCFDC4-4A47-4C45-A77D-5AE84BE3597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DFE142-A214-44BB-9307-1D1CFDEFA15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B2324B-10F8-4275-B795-3B168EEDFA2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830815-83C4-4CC8-AC8B-5191C4107A8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766EAA-0A08-43DD-A8CB-2B052CDB965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FF12AA-CD1B-4823-A540-E28E95B92B8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E79B5C-2C35-4C6D-BA5A-96FD1B37842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236BC5-9392-444E-B229-0AF3DFD3E5B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BD0C99-716D-40D8-B054-E6E4808345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E26DD-A341-4333-83C7-D0028B277BF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817967-55CE-455A-A48F-005B0E7DD4F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0E9F74-8C02-4C1D-911E-76D746FA19B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7267EF-852A-4E21-AC1A-795607C032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40B62-8C4B-4893-B219-DB593F2831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6A9AB-86FA-4EBF-9598-1029EBA537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4180E-B4F4-4117-9895-0F76B667C0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AD33B-F429-4533-A1BA-9AA0F1C25A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4B0DA-A5CC-4295-9A60-C1F6B97C69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129ED-83B3-43FA-9ACC-B2334E4DBC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07504-1818-41D7-94C7-FC89558CE4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10C7F-8D9C-45F8-934B-C3DD913A00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A0AAA-2DA4-46FC-B5E4-B05714D68C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5BECD-0031-449D-AD83-68814BA0C2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38195-DAED-4D06-923C-18D9DF3A520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15FFF-53AC-4EA9-8477-CFBEB6B480B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D9C2F-5ED8-4D5C-A777-C653CE388FA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E2DE2-DE94-4DC8-96B3-EE5A9C7E67B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DE3B5-5D86-4021-812C-A8BDBE5EA45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9F2A3-97CD-4C4A-AC55-9C13F202BA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F9BBC-2EDD-4542-B8D4-6640D800B7F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C41A5-374E-4362-8C3B-29498AFE4E7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9F034D-4E33-4C08-B430-F410D55CA71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D8A4A-44C8-4EDC-A91A-A4AA6CB64A8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DD296-D491-4CC4-A329-CEE3F50FDFE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5BC5B-9D4A-4D3A-9755-61F9E7D5636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45188-F61A-4D63-B7E8-1815FA21660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5F15-0DBE-463F-8830-5C7E977220A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E05A-14CB-4489-B76E-2E14E45EB6E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404A-4547-4102-8E5C-7828B83491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685C-7388-4083-9FDC-437A652AB16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B9C8-CA78-4CCD-834B-B544697B75C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AF87-CED6-455C-9F14-9327A6C583F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A428-D42C-4F7D-8E8E-D66F3F7326B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CB06-0ADC-41B0-B3CF-D4893AF06AD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AC9EC-AC0D-4593-93E9-0FF8FE9916C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3376-E2F0-4079-BD37-2ED20D4B809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4528-1143-4211-A51B-EF6A479D4FB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8A38-37FC-420C-B8E9-7F888A6A2AD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91423A-8232-4058-8C7A-1AFDFF3255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A91324-D4DF-44AE-BAF3-3FECF3CBFC9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CD33F4-939E-4B6B-B52E-BE576070B72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505ADB-5921-4761-A701-1AF541415E6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85FDB9-E898-4203-A286-2ACFB5EF972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558060-A662-4F40-ACA5-67C85E426EA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CE82B2-DB73-4070-A626-2836F58C41B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791715-950B-4BF2-BFD3-81597359498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A467F5-89F2-4BDF-A316-2F11776CE94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A533E1-0C12-4DD3-B93B-4051972DD2C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9DC606-4411-404F-929F-7C345A9914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4D0109-1120-47AB-A092-94DDAA2AF3F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3F35D7-71DE-4AAB-A09B-1FE42F815FA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E60D5B-1CFC-4828-A1A4-0CA2DC4B922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1DB271-B5B4-4AED-8F5B-8C6C7FE05FD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BB6EFC-CDFD-443B-A585-54283EAB102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C4B51C-BE81-4710-B543-B858C35A6C7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BD6F83-24E6-4954-AC39-8E50840C184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928D9E-CFE4-4883-8B5D-F3EB03ED3BE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4650BD-61A8-49C6-9EE7-23B47D94CAA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3426C1-E859-4E9D-9C82-114D80108A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A2BB43-F2C2-4216-B8CA-16F58E537F7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DC0D4E-3B9C-4DE3-A5B4-598CCDED87A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11947D-739A-4914-8912-5A4B5D661E2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FDCAB-9249-439E-8014-9ECC34D6D1A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20DC9-A50C-4054-9D51-03536157162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AD2E0-DFFB-42DE-AAC3-A82D832C6FC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04BFC-3132-4793-BDF8-A759A7A1612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D6A42-C0A1-489F-8868-D924DC3E2AD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5E615-8E07-465F-A333-E7F89552FDF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3344F-79C5-4A90-B481-C4AE54A664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5B6C5-FFC3-49B7-B1CD-B323E3770AC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146F7-6BDA-4298-AAE6-8C65977E900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6F8AF-C524-45EF-8F63-371F232E828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D5811-7CF8-4253-BCC2-3FD8E7B6E67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3BF62-3171-4920-8858-B03ED4D3BD6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6CFBA8-ED4C-43BC-A8D3-43D474243C0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2660AD-A147-48AD-B8CB-4E94819640C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9D2006-410D-42D6-AC40-44C06BF25C6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AB37EF-C4C3-4EB1-B30C-2F2281E4FA3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D52BCD-9257-4ED4-8A4E-77EC6E394E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EF6F72-98A4-412D-AE1D-07EFB6E7E76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287008-FCD0-49C5-A14E-0A765F28B63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C1F4BC-DEFD-471A-846A-6F3D1A58FB1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90A0F5-78E7-4D6E-A773-AAFC9402DE5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EDC4CC-C497-4AF2-961D-E7D3784DC6A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443002-3A3F-4F04-B8AE-449193D40E2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611D05-D2ED-42C6-A72A-FCAE48A7B34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02618F-94B9-41E1-B37A-7F224B96E7D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C70AEB-8022-4D24-8339-F892BA834ED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C040D4-B3EA-4FDC-AD17-4F80354A26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ftr" idx="1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ldNum" idx="1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63DC-C91E-41C3-B7E8-D79A5AA0E82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ftr" idx="1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ldNum" idx="2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DE09-F482-4A4B-8C3B-DDFF4277A314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ftr" idx="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9C19-89B8-466A-845C-E0424D20045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ftr" idx="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6A48-5C08-4D62-8D7C-B1C8BA45FC9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ftr" idx="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Num" idx="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8C58-E7FB-4D94-ACC5-C7819372B2C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ftr" idx="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Num" idx="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2B79-6F8A-4048-A1CD-592438E2AC5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ftr" idx="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ldNum" idx="1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BB3B-184C-49F9-B389-8E74B2A580C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ftr" idx="1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ldNum" idx="1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3766-AB06-4510-BAB5-E4147ABC24D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9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ftr" idx="1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ldNum" idx="1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5207-7341-49E9-AA2B-E8CF0D39C73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ftr" idx="1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ldNum" idx="1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EE5E-D079-4A9E-AF98-983E0FDE508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3"/>
          <p:cNvSpPr/>
          <p:nvPr/>
        </p:nvSpPr>
        <p:spPr>
          <a:xfrm>
            <a:off x="991800" y="15876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rsi a scelta Laurea Magistrale - 2° semestr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I Livello – 9 settembre 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Rectangle 2"/>
          <p:cNvSpPr/>
          <p:nvPr/>
        </p:nvSpPr>
        <p:spPr>
          <a:xfrm>
            <a:off x="395280" y="981000"/>
            <a:ext cx="8215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rso: </a:t>
            </a:r>
            <a:r>
              <a:rPr b="1" lang="it-IT" sz="2000" spc="-1" strike="noStrike">
                <a:solidFill>
                  <a:srgbClr val="ff3300"/>
                </a:solidFill>
                <a:latin typeface="Verdana"/>
              </a:rPr>
              <a:t>System Design for Sustainability (SDS)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ocente: Prof. Carlo Vezzol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dLM a cui è offerto: tutti i CdLM (NO D&amp;E)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emestre: 2°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ingua di erogazione: ingles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° max studenti ammessi: 60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odalità d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same per non frequentanti: S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Rectangle 6"/>
          <p:cNvSpPr/>
          <p:nvPr/>
        </p:nvSpPr>
        <p:spPr>
          <a:xfrm>
            <a:off x="395280" y="3587760"/>
            <a:ext cx="828036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d0d0d"/>
                </a:solidFill>
                <a:latin typeface="Arial"/>
                <a:ea typeface="ＭＳ Ｐゴシック"/>
              </a:rPr>
              <a:t>THE SCOPE OF THE COURSE IS TO</a:t>
            </a:r>
            <a:r>
              <a:rPr b="1" lang="it-IT" sz="1800" spc="-1" strike="noStrike">
                <a:solidFill>
                  <a:srgbClr val="0d0d0d"/>
                </a:solidFill>
                <a:latin typeface="Arial"/>
                <a:ea typeface="ＭＳ Ｐゴシック"/>
              </a:rPr>
              <a:t> </a:t>
            </a:r>
            <a:r>
              <a:rPr b="1" lang="en-GB" sz="1800" spc="-1" strike="noStrike">
                <a:solidFill>
                  <a:srgbClr val="0d0d0d"/>
                </a:solidFill>
                <a:latin typeface="Arial"/>
                <a:ea typeface="ＭＳ Ｐゴシック"/>
              </a:rPr>
              <a:t>TEACH ABOUT THE </a:t>
            </a:r>
            <a:r>
              <a:rPr b="1" lang="en-GB" sz="1800" spc="-1" strike="noStrike" u="sng">
                <a:solidFill>
                  <a:srgbClr val="0d0d0d"/>
                </a:solidFill>
                <a:uFillTx/>
                <a:latin typeface="Arial"/>
                <a:ea typeface="ＭＳ Ｐゴシック"/>
              </a:rPr>
              <a:t>THEORY</a:t>
            </a:r>
            <a:r>
              <a:rPr b="1" lang="en-GB" sz="1800" spc="-1" strike="noStrike">
                <a:solidFill>
                  <a:srgbClr val="0d0d0d"/>
                </a:solidFill>
                <a:latin typeface="Arial"/>
                <a:ea typeface="ＭＳ Ｐゴシック"/>
              </a:rPr>
              <a:t> AND THE </a:t>
            </a:r>
            <a:r>
              <a:rPr b="1" lang="en-GB" sz="1800" spc="-1" strike="noStrike" u="sng">
                <a:solidFill>
                  <a:srgbClr val="0d0d0d"/>
                </a:solidFill>
                <a:uFillTx/>
                <a:latin typeface="Arial"/>
                <a:ea typeface="ＭＳ Ｐゴシック"/>
              </a:rPr>
              <a:t>PRACTICE</a:t>
            </a:r>
            <a:r>
              <a:rPr b="1" lang="en-GB" sz="1800" spc="-1" strike="noStrike">
                <a:solidFill>
                  <a:srgbClr val="0d0d0d"/>
                </a:solidFill>
                <a:latin typeface="Arial"/>
                <a:ea typeface="ＭＳ Ｐゴシック"/>
              </a:rPr>
              <a:t> OF  SYSTEM DESIGN FOR SUSTAINABILITY (SDS)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d0d0d"/>
                </a:solidFill>
                <a:latin typeface="Arial"/>
                <a:ea typeface="ＭＳ Ｐゴシック"/>
              </a:rPr>
              <a:t>or PRODUCT-SERVICE SYSTEM (PSS) DESIGN FOR SUSTAINABILITY</a:t>
            </a:r>
            <a:r>
              <a:rPr b="1" i="1" lang="it-IT" sz="1800" spc="-1" strike="noStrike">
                <a:solidFill>
                  <a:srgbClr val="0d0d0d"/>
                </a:solidFill>
                <a:latin typeface="Arial"/>
                <a:ea typeface="ＭＳ Ｐゴシック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d0d0d"/>
                </a:solidFill>
                <a:latin typeface="Arial"/>
                <a:ea typeface="ＭＳ Ｐゴシック"/>
              </a:rPr>
              <a:t>THE COURSE IS STRUCTURED INTO TWO PARTS:</a:t>
            </a:r>
            <a:endParaRPr b="1" lang="en-US" sz="1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d0d0d"/>
                </a:solidFill>
                <a:latin typeface="Arial"/>
                <a:ea typeface="ＭＳ Ｐゴシック"/>
              </a:rPr>
              <a:t>- THE THEORETICAL PART (5 lectures)</a:t>
            </a:r>
            <a:endParaRPr b="1" lang="en-US" sz="1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d0d0d"/>
                </a:solidFill>
                <a:latin typeface="Arial"/>
                <a:ea typeface="ＭＳ Ｐゴシック"/>
              </a:rPr>
              <a:t>- THE DESIGN EXERCISE (8 lectures) </a:t>
            </a:r>
            <a:endParaRPr b="1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1"/>
          <p:cNvGrpSpPr/>
          <p:nvPr/>
        </p:nvGrpSpPr>
        <p:grpSpPr>
          <a:xfrm>
            <a:off x="0" y="831960"/>
            <a:ext cx="9144000" cy="5765760"/>
            <a:chOff x="0" y="831960"/>
            <a:chExt cx="9144000" cy="5765760"/>
          </a:xfrm>
        </p:grpSpPr>
        <p:sp>
          <p:nvSpPr>
            <p:cNvPr id="463" name="Rectangle 3"/>
            <p:cNvSpPr/>
            <p:nvPr/>
          </p:nvSpPr>
          <p:spPr>
            <a:xfrm>
              <a:off x="0" y="6309360"/>
              <a:ext cx="9144000" cy="28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464" name="Picture 2" descr="poster_seminario Lenses_new-01.png"/>
            <p:cNvPicPr/>
            <p:nvPr/>
          </p:nvPicPr>
          <p:blipFill>
            <a:blip r:embed="rId1"/>
            <a:srcRect l="9316" t="3718" r="2177" b="0"/>
            <a:stretch/>
          </p:blipFill>
          <p:spPr>
            <a:xfrm>
              <a:off x="0" y="831960"/>
              <a:ext cx="9144000" cy="549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I Livello – 9 settembre 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991800" y="15876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rsi a scelta Laurea Magistrale - 2° semestr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Text Box 9"/>
          <p:cNvSpPr/>
          <p:nvPr/>
        </p:nvSpPr>
        <p:spPr>
          <a:xfrm>
            <a:off x="395280" y="5643720"/>
            <a:ext cx="266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9900"/>
                </a:solidFill>
                <a:latin typeface="Arial"/>
                <a:ea typeface="Arial"/>
              </a:rPr>
              <a:t>CPUT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pe Peninsula University of Technology, Cape Town, South Africa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Text Box 10"/>
          <p:cNvSpPr/>
          <p:nvPr/>
        </p:nvSpPr>
        <p:spPr>
          <a:xfrm>
            <a:off x="1757520" y="4121280"/>
            <a:ext cx="2093760" cy="9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9900"/>
                </a:solidFill>
                <a:latin typeface="Arial"/>
                <a:ea typeface="Arial"/>
              </a:rPr>
              <a:t>MAK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kerere University, Kampala, Uganda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Text Box 11"/>
          <p:cNvSpPr/>
          <p:nvPr/>
        </p:nvSpPr>
        <p:spPr>
          <a:xfrm>
            <a:off x="3708360" y="5283360"/>
            <a:ext cx="235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9900"/>
                </a:solidFill>
                <a:latin typeface="Arial"/>
                <a:ea typeface="Arial"/>
              </a:rPr>
              <a:t>UOB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niversity of Botswana,</a:t>
            </a:r>
            <a:r>
              <a:rPr b="1" i="1" lang="en-GB" sz="14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Gaborone 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Text Box 12"/>
          <p:cNvSpPr/>
          <p:nvPr/>
        </p:nvSpPr>
        <p:spPr>
          <a:xfrm>
            <a:off x="4211640" y="4292640"/>
            <a:ext cx="2232000" cy="9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9900"/>
                </a:solidFill>
                <a:latin typeface="Arial"/>
                <a:ea typeface="Arial"/>
              </a:rPr>
              <a:t>UONBI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niversity of Nairobi, Kenya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Rectangle 2"/>
          <p:cNvSpPr/>
          <p:nvPr/>
        </p:nvSpPr>
        <p:spPr>
          <a:xfrm>
            <a:off x="179280" y="981000"/>
            <a:ext cx="8964720" cy="55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d0d0d"/>
                </a:solidFill>
                <a:uFillTx/>
                <a:latin typeface="Arial"/>
                <a:ea typeface="Arial"/>
              </a:rPr>
              <a:t>THE DESIGN EXERCISE</a:t>
            </a:r>
            <a:r>
              <a:rPr b="1" lang="en-US" sz="1500" spc="-1" strike="noStrike">
                <a:solidFill>
                  <a:srgbClr val="0d0d0d"/>
                </a:solidFill>
                <a:latin typeface="Arial"/>
                <a:ea typeface="Arial"/>
              </a:rPr>
              <a:t> is framed within:</a:t>
            </a: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d0d0d"/>
                </a:solidFill>
                <a:latin typeface="Arial"/>
                <a:ea typeface="Arial"/>
              </a:rPr>
              <a:t>- the LeNSes (Learning Network on Sustainable energy systems), </a:t>
            </a: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d0d0d"/>
                </a:solidFill>
                <a:latin typeface="Arial"/>
                <a:ea typeface="Arial"/>
              </a:rPr>
              <a:t>EU funded project Edulink II Program</a:t>
            </a: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d0d0d"/>
                </a:solidFill>
                <a:latin typeface="Arial"/>
                <a:ea typeface="Arial"/>
              </a:rPr>
              <a:t>- the Sustainability Maker EU funded project, LIFE+ Program </a:t>
            </a: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 u="sng">
                <a:solidFill>
                  <a:srgbClr val="0d0d0d"/>
                </a:solidFill>
                <a:uFillTx/>
                <a:latin typeface="Arial"/>
                <a:ea typeface="Arial"/>
              </a:rPr>
              <a:t>DESIGN BRIEF</a:t>
            </a:r>
            <a:r>
              <a:rPr b="1" lang="en-GB" sz="1500" spc="-1" strike="noStrike">
                <a:solidFill>
                  <a:srgbClr val="0d0d0d"/>
                </a:solidFill>
                <a:latin typeface="Arial"/>
                <a:ea typeface="Arial"/>
              </a:rPr>
              <a:t>:</a:t>
            </a: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d0d0d"/>
                </a:solidFill>
                <a:latin typeface="Arial"/>
                <a:ea typeface="Arial"/>
              </a:rPr>
              <a:t>design a </a:t>
            </a:r>
            <a:r>
              <a:rPr b="1" i="1" lang="en-GB" sz="1500" spc="-1" strike="noStrike">
                <a:solidFill>
                  <a:srgbClr val="0d0d0d"/>
                </a:solidFill>
                <a:latin typeface="Arial"/>
                <a:ea typeface="Arial"/>
              </a:rPr>
              <a:t>Locally-Based Sustainable Energy System</a:t>
            </a:r>
            <a:r>
              <a:rPr b="1" lang="en-GB" sz="1500" spc="-1" strike="noStrike">
                <a:solidFill>
                  <a:srgbClr val="0d0d0d"/>
                </a:solidFill>
                <a:latin typeface="Arial"/>
                <a:ea typeface="Arial"/>
              </a:rPr>
              <a:t>, based on the promising models of Sustainable Product-Service Systems (S.PSS) applied to Distributed Renewable Energy (DRE), for a given THEME </a:t>
            </a:r>
            <a:r>
              <a:rPr b="1" lang="en-US" sz="1500" spc="-1" strike="noStrike">
                <a:solidFill>
                  <a:srgbClr val="0d0d0d"/>
                </a:solidFill>
                <a:latin typeface="Arial"/>
                <a:ea typeface="Arial"/>
              </a:rPr>
              <a:t>(eating and clothing care function)</a:t>
            </a:r>
            <a:r>
              <a:rPr b="1" lang="en-GB" sz="1500" spc="-1" strike="noStrike">
                <a:solidFill>
                  <a:srgbClr val="0d0d0d"/>
                </a:solidFill>
                <a:latin typeface="Arial"/>
                <a:ea typeface="Arial"/>
              </a:rPr>
              <a:t> of a given African CONTEXT (</a:t>
            </a:r>
            <a:r>
              <a:rPr b="1" lang="en-US" sz="1500" spc="-1" strike="noStrike">
                <a:solidFill>
                  <a:srgbClr val="0d0d0d"/>
                </a:solidFill>
                <a:latin typeface="Arial"/>
                <a:ea typeface="Arial"/>
              </a:rPr>
              <a:t>Botswana, Kenya, South Africa and Uganda</a:t>
            </a:r>
            <a:r>
              <a:rPr b="1" lang="en-GB" sz="1500" spc="-1" strike="noStrike">
                <a:solidFill>
                  <a:srgbClr val="0d0d0d"/>
                </a:solidFill>
                <a:latin typeface="Arial"/>
                <a:ea typeface="Arial"/>
              </a:rPr>
              <a:t>), with the contribution of the AFRICAN PROFESSORS form 4 sub-saharan universities (see below) that will provide remote critics and suggestion on the concepts STUDENTS will design for THEIR context.</a:t>
            </a: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1" lang="en-GB" sz="12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1" lang="en-GB" sz="12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1" lang="en-GB" sz="1200" spc="-1" strike="noStrike">
                <a:solidFill>
                  <a:srgbClr val="0d0d0d"/>
                </a:solidFill>
                <a:latin typeface="Arial"/>
                <a:ea typeface="Arial"/>
              </a:rPr>
              <a:t>      </a:t>
            </a:r>
            <a:r>
              <a:rPr b="1" lang="en-GB" sz="12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1" lang="en-GB" sz="12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1" lang="en-GB" sz="12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1" lang="en-GB" sz="1200" spc="-1" strike="noStrike">
                <a:solidFill>
                  <a:srgbClr val="0d0d0d"/>
                </a:solidFill>
                <a:latin typeface="Arial"/>
                <a:ea typeface="Arial"/>
              </a:rPr>
              <a:t>video presentation of the course available at: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1" lang="en-GB" sz="15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1" lang="en-GB" sz="15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1" lang="en-GB" sz="1500" spc="-1" strike="noStrike">
                <a:solidFill>
                  <a:srgbClr val="0d0d0d"/>
                </a:solidFill>
                <a:latin typeface="Arial"/>
                <a:ea typeface="Arial"/>
              </a:rPr>
              <a:t>         </a:t>
            </a:r>
            <a:r>
              <a:rPr b="1" lang="en-GB" sz="1100" spc="-1" strike="noStrike">
                <a:solidFill>
                  <a:srgbClr val="ff9900"/>
                </a:solidFill>
                <a:latin typeface="Arial"/>
                <a:ea typeface="Arial"/>
              </a:rPr>
              <a:t>http://www.lens.polimi.it/uploads/NTQQRXWPOH20110310103752/0.0%20new.html</a:t>
            </a:r>
            <a:endParaRPr b="1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2" name="Picture 18" descr="poster_seminario Lenses_new-02.png"/>
          <p:cNvPicPr/>
          <p:nvPr/>
        </p:nvPicPr>
        <p:blipFill>
          <a:blip r:embed="rId2"/>
          <a:stretch/>
        </p:blipFill>
        <p:spPr>
          <a:xfrm>
            <a:off x="5826240" y="1773360"/>
            <a:ext cx="3046320" cy="576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9" descr="poster_seminario Lenses_new-03.png"/>
          <p:cNvPicPr/>
          <p:nvPr/>
        </p:nvPicPr>
        <p:blipFill>
          <a:blip r:embed="rId3"/>
          <a:stretch/>
        </p:blipFill>
        <p:spPr>
          <a:xfrm>
            <a:off x="6875640" y="1125360"/>
            <a:ext cx="208728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13:48:10Z</dcterms:created>
  <dc:creator>Silvia</dc:creator>
  <dc:description/>
  <dc:language>en-US</dc:language>
  <cp:lastModifiedBy>Emanuela Delfino</cp:lastModifiedBy>
  <cp:lastPrinted>2003-05-08T11:08:41Z</cp:lastPrinted>
  <dcterms:modified xsi:type="dcterms:W3CDTF">2014-07-17T13:14:51Z</dcterms:modified>
  <cp:revision>223</cp:revision>
  <dc:subject/>
  <dc:title>Inserire immagine della locandina, possibilmente in trasparenza e aggiungere Facoltà di Architettura Illustrazione prova di ammissione prof. Silvia Piardi (idem Cedolin)</dc:title>
</cp:coreProperties>
</file>